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9D05-469F-4483-B7DA-20AE76DFC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1277-8D7E-4601-8226-AB8C00B20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9D56-938B-4A26-8B43-E35537AB2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6239-A600-4CF0-8D90-A5E637BBB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C67C-A810-4E33-AC86-DF7C587F4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BD37-DABF-4D04-8D10-92527FD12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5612-5837-4064-B3C0-74095E7EA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D192-9E48-475F-8031-989EDD1FF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C649-30D5-47D6-91B6-44D5694C4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93FA-99CD-47A4-B53E-1FA1F021E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4182-7B4D-416B-9A93-0B848677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0FAC-898A-49C1-814B-F147BE5E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EC4B-0F53-4949-9A82-80B49B75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BE73-776F-48F2-8F0E-17B607FC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4963-D9A6-43A6-92AA-A2266918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33C6-23A4-422E-86CB-48EBA6CD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C83F-BF65-42EA-A000-1A40846F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66ED-7457-4B9E-B280-B29439E8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2C2F-C9DE-4DBA-A9D5-561F5AA3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FB88-1575-405A-B209-0E81F169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75FA-18CA-4A23-BC13-226466C8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BBE0-6176-4C8D-A9B9-147AC367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F0E8-2C3C-4799-A4C3-6A7C7BC2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7C7D-7347-4A1D-8F80-E809BD4B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3FC4-90BD-47C8-BA2F-DE9C8F58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4B53-BA5E-42D8-BB96-9058CEFE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9259-2DD7-41CE-AA24-B84F8168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7786-3608-43D0-A15A-51B4B9FE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10B0-E3C9-4932-BA42-298B62A2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30D5-E11A-4465-ACAC-D1FE78C9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26A8-1077-4A33-B2D6-8E25BF19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198C-025A-45A9-A887-65C4ED23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4890-6382-4796-BABE-CDA74463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55D4-6381-4CB7-B463-F8FD821A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2A64-4A3E-4D7E-99EC-37DEBCD548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531F-2D2A-4BF8-862C-6CCEC1FC5C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7"/>
          <p:cNvSpPr/>
          <p:nvPr/>
        </p:nvSpPr>
        <p:spPr>
          <a:xfrm>
            <a:off x="831960" y="301680"/>
            <a:ext cx="77724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Arial"/>
              </a:rPr>
              <a:t>Yr 12 IB Chemist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071720" y="2836440"/>
            <a:ext cx="289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centage Yield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centage Atom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uring a Re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http://www.consumerist.com/assets/resources/2006/10/alchemical.jpg"/>
          <p:cNvPicPr/>
          <p:nvPr/>
        </p:nvPicPr>
        <p:blipFill>
          <a:blip r:embed="rId1"/>
          <a:stretch/>
        </p:blipFill>
        <p:spPr>
          <a:xfrm>
            <a:off x="4248000" y="2000160"/>
            <a:ext cx="38102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2124000" y="2593800"/>
            <a:ext cx="60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ff"/>
                </a:solidFill>
                <a:latin typeface="Arial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1857600" y="427680"/>
            <a:ext cx="541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Percentage Yield During a Re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8360" y="1514520"/>
          <a:ext cx="1800000" cy="366840"/>
        </p:xfrm>
        <a:graphic>
          <a:graphicData uri="http://schemas.openxmlformats.org/drawingml/2006/table">
            <a:tbl>
              <a:tblPr/>
              <a:tblGrid>
                <a:gridCol w="1576440"/>
                <a:gridCol w="223560"/>
              </a:tblGrid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% Yield 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Rectangle 33"/>
          <p:cNvSpPr/>
          <p:nvPr/>
        </p:nvSpPr>
        <p:spPr>
          <a:xfrm>
            <a:off x="1750680" y="1267920"/>
            <a:ext cx="53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ctual Yield in Gram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Produced During an Experi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47640" y="1773360"/>
          <a:ext cx="6328080" cy="366480"/>
        </p:xfrm>
        <a:graphic>
          <a:graphicData uri="http://schemas.openxmlformats.org/drawingml/2006/table">
            <a:tbl>
              <a:tblPr/>
              <a:tblGrid>
                <a:gridCol w="6080400"/>
                <a:gridCol w="247680"/>
              </a:tblGrid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heoretical Yiel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as predicted by reaction equation)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n Gr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740720" y="1484280"/>
          <a:ext cx="1008000" cy="366840"/>
        </p:xfrm>
        <a:graphic>
          <a:graphicData uri="http://schemas.openxmlformats.org/drawingml/2006/table">
            <a:tbl>
              <a:tblPr/>
              <a:tblGrid>
                <a:gridCol w="1008000"/>
              </a:tblGrid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x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Line 208"/>
          <p:cNvSpPr/>
          <p:nvPr/>
        </p:nvSpPr>
        <p:spPr>
          <a:xfrm>
            <a:off x="1606680" y="1714680"/>
            <a:ext cx="59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4"/>
          <p:cNvSpPr/>
          <p:nvPr/>
        </p:nvSpPr>
        <p:spPr>
          <a:xfrm>
            <a:off x="549360" y="2817000"/>
            <a:ext cx="56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% yield will usually b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ss than 100%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because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16"/>
          <p:cNvSpPr/>
          <p:nvPr/>
        </p:nvSpPr>
        <p:spPr>
          <a:xfrm>
            <a:off x="535320" y="3485160"/>
            <a:ext cx="41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. The reaction may b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compl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8"/>
          <p:cNvSpPr/>
          <p:nvPr/>
        </p:nvSpPr>
        <p:spPr>
          <a:xfrm>
            <a:off x="533160" y="4061520"/>
            <a:ext cx="35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ther reaction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may occ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20"/>
          <p:cNvSpPr/>
          <p:nvPr/>
        </p:nvSpPr>
        <p:spPr>
          <a:xfrm>
            <a:off x="532800" y="4651920"/>
            <a:ext cx="59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. Product i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os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during separation and purif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2">
            <a:hlinkClick r:id="" action="ppaction://hlinkshowjump?jump=nextslide"/>
          </p:cNvPr>
          <p:cNvSpPr/>
          <p:nvPr/>
        </p:nvSpPr>
        <p:spPr>
          <a:xfrm>
            <a:off x="8604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95280" y="333360"/>
          <a:ext cx="8424720" cy="45720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Arial"/>
                        </a:rPr>
                        <a:t>Steps to Calculate a Percentage Y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70"/>
          <p:cNvSpPr/>
          <p:nvPr/>
        </p:nvSpPr>
        <p:spPr>
          <a:xfrm>
            <a:off x="250920" y="1052640"/>
            <a:ext cx="82087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1. Convert the mass (w</a:t>
            </a:r>
            <a:r>
              <a:rPr b="0" lang="en-US" sz="24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) of main reactant (R) to a number (n</a:t>
            </a:r>
            <a:r>
              <a:rPr b="0" lang="en-US" sz="24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) of moles us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= w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/M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Arial"/>
                <a:ea typeface="Arial"/>
              </a:rPr>
              <a:t>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of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3"/>
          <p:cNvSpPr/>
          <p:nvPr/>
        </p:nvSpPr>
        <p:spPr>
          <a:xfrm>
            <a:off x="264960" y="1959120"/>
            <a:ext cx="874872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2. Calculate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heoretical number (n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) of mol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of product (P) using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atio from the balanced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6"/>
          <p:cNvSpPr/>
          <p:nvPr/>
        </p:nvSpPr>
        <p:spPr>
          <a:xfrm>
            <a:off x="279360" y="2852640"/>
            <a:ext cx="83534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3. Calculate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heoretical mass (w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of product (P) us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w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= n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x M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of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9"/>
          <p:cNvSpPr/>
          <p:nvPr/>
        </p:nvSpPr>
        <p:spPr>
          <a:xfrm>
            <a:off x="284400" y="378936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4. Calculate the percentage yield using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71640" y="4829040"/>
          <a:ext cx="1800000" cy="457200"/>
        </p:xfrm>
        <a:graphic>
          <a:graphicData uri="http://schemas.openxmlformats.org/drawingml/2006/table">
            <a:tbl>
              <a:tblPr/>
              <a:tblGrid>
                <a:gridCol w="1576440"/>
                <a:gridCol w="2235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% Yield 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89"/>
          <p:cNvSpPr/>
          <p:nvPr/>
        </p:nvSpPr>
        <p:spPr>
          <a:xfrm>
            <a:off x="3330720" y="456768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tual Yield in 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725560" y="5133960"/>
          <a:ext cx="5015160" cy="457200"/>
        </p:xfrm>
        <a:graphic>
          <a:graphicData uri="http://schemas.openxmlformats.org/drawingml/2006/table">
            <a:tbl>
              <a:tblPr/>
              <a:tblGrid>
                <a:gridCol w="5015160"/>
              </a:tblGrid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heoretical Yield (w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 Gra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7164360" y="4809960"/>
          <a:ext cx="1295280" cy="45720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x 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Line 113"/>
          <p:cNvSpPr/>
          <p:nvPr/>
        </p:nvSpPr>
        <p:spPr>
          <a:xfrm>
            <a:off x="2962440" y="5068800"/>
            <a:ext cx="39621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15">
            <a:hlinkClick r:id="" action="ppaction://hlinkshowjump?jump=nextslide"/>
          </p:cNvPr>
          <p:cNvSpPr/>
          <p:nvPr/>
        </p:nvSpPr>
        <p:spPr>
          <a:xfrm>
            <a:off x="85755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2"/>
          <p:cNvSpPr/>
          <p:nvPr/>
        </p:nvSpPr>
        <p:spPr>
          <a:xfrm>
            <a:off x="571680" y="5857920"/>
            <a:ext cx="72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N.B. This assumes all other reactants are present in excess, or at least in stoichiometric a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676440" y="398520"/>
            <a:ext cx="74358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12880" indent="-81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e.g1  12.0g ethanol (C</a:t>
            </a:r>
            <a:r>
              <a:rPr b="0" lang="en-US" sz="24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5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OH) is reacted to produce 5.3g of ethene (C</a:t>
            </a:r>
            <a:r>
              <a:rPr b="0" lang="en-US" sz="24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). Calculate the % yield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591480" y="1556280"/>
            <a:ext cx="45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1.      Number of moles of ethanol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610560" y="2392920"/>
            <a:ext cx="37749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2.      C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H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5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OH  </a:t>
            </a:r>
            <a:r>
              <a:rPr b="0" lang="en-US" sz="2000" spc="-1" strike="noStrike">
                <a:solidFill>
                  <a:srgbClr val="80008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  C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H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4 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+  H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O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565200" y="4002840"/>
            <a:ext cx="47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3.      Theoretical mass of ethene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1258200" y="1916280"/>
            <a:ext cx="1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= 12.0 / 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2700360" y="1908000"/>
            <a:ext cx="8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.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1228320" y="2951280"/>
            <a:ext cx="54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Theoretical number of moles of ethene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1330920" y="4471920"/>
            <a:ext cx="144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= 0.26 x 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2916360" y="4484520"/>
            <a:ext cx="8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.3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1237680" y="3448080"/>
            <a:ext cx="27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26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 since 1:1 re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333440" y="5172120"/>
          <a:ext cx="1800360" cy="396720"/>
        </p:xfrm>
        <a:graphic>
          <a:graphicData uri="http://schemas.openxmlformats.org/drawingml/2006/table">
            <a:tbl>
              <a:tblPr/>
              <a:tblGrid>
                <a:gridCol w="1576440"/>
                <a:gridCol w="22392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% Yield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Rectangle 28"/>
          <p:cNvSpPr/>
          <p:nvPr/>
        </p:nvSpPr>
        <p:spPr>
          <a:xfrm>
            <a:off x="3117240" y="50472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5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119400" y="5413320"/>
          <a:ext cx="765360" cy="397080"/>
        </p:xfrm>
        <a:graphic>
          <a:graphicData uri="http://schemas.openxmlformats.org/drawingml/2006/table">
            <a:tbl>
              <a:tblPr/>
              <a:tblGrid>
                <a:gridCol w="765360"/>
              </a:tblGrid>
              <a:tr h="397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708360" y="5176800"/>
          <a:ext cx="1295280" cy="39708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x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Line 41"/>
          <p:cNvSpPr/>
          <p:nvPr/>
        </p:nvSpPr>
        <p:spPr>
          <a:xfrm>
            <a:off x="3021120" y="5411880"/>
            <a:ext cx="7189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5"/>
          <p:cNvSpPr/>
          <p:nvPr/>
        </p:nvSpPr>
        <p:spPr>
          <a:xfrm>
            <a:off x="612720" y="5149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8"/>
          <p:cNvSpPr/>
          <p:nvPr/>
        </p:nvSpPr>
        <p:spPr>
          <a:xfrm>
            <a:off x="4700880" y="5204520"/>
            <a:ext cx="10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= 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72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50">
            <a:hlinkClick r:id="" action="ppaction://hlinkshowjump?jump=nextslide"/>
          </p:cNvPr>
          <p:cNvSpPr/>
          <p:nvPr/>
        </p:nvSpPr>
        <p:spPr>
          <a:xfrm>
            <a:off x="85755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571680" y="185760"/>
            <a:ext cx="7967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12880" indent="-81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e.g2  8.85 g of sodium hydroxide (NaOH) is reacted to produce 9.45 g of  sodium carbonate (Na</a:t>
            </a:r>
            <a:r>
              <a:rPr b="0" lang="en-US" sz="24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O</a:t>
            </a:r>
            <a:r>
              <a:rPr b="0" lang="en-US" sz="24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). Calculate the % yield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12000" y="1557720"/>
            <a:ext cx="44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1.      Number of moles of NaOH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631080" y="2394360"/>
            <a:ext cx="49435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2.      2NaOH  +  CO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  </a:t>
            </a:r>
            <a:r>
              <a:rPr b="0" lang="en-US" sz="2000" spc="-1" strike="noStrike">
                <a:solidFill>
                  <a:srgbClr val="80008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  Na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CO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3 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+  H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O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596880" y="3983400"/>
            <a:ext cx="484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3.      Theoretical mass of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Na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1267920" y="1916280"/>
            <a:ext cx="319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= 8.85 / (23.0 + 16.0 + 1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387680" y="1908000"/>
            <a:ext cx="12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=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.2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1314000" y="2951280"/>
            <a:ext cx="5495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Theoretical number of moles of Na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1319760" y="4471920"/>
            <a:ext cx="32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= 0.111 x (2(23)+12+3(16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4566960" y="448452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1.73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1240200" y="3448080"/>
            <a:ext cx="423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221/2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  (since 2:1 re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) 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333440" y="5172120"/>
          <a:ext cx="1800360" cy="396720"/>
        </p:xfrm>
        <a:graphic>
          <a:graphicData uri="http://schemas.openxmlformats.org/drawingml/2006/table">
            <a:tbl>
              <a:tblPr/>
              <a:tblGrid>
                <a:gridCol w="1576440"/>
                <a:gridCol w="22392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% Yield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28"/>
          <p:cNvSpPr/>
          <p:nvPr/>
        </p:nvSpPr>
        <p:spPr>
          <a:xfrm>
            <a:off x="3062520" y="50011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9.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976480" y="5500800"/>
          <a:ext cx="1095480" cy="396720"/>
        </p:xfrm>
        <a:graphic>
          <a:graphicData uri="http://schemas.openxmlformats.org/drawingml/2006/table">
            <a:tbl>
              <a:tblPr/>
              <a:tblGrid>
                <a:gridCol w="109548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.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3708360" y="5176800"/>
          <a:ext cx="1295280" cy="39708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x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Line 41"/>
          <p:cNvSpPr/>
          <p:nvPr/>
        </p:nvSpPr>
        <p:spPr>
          <a:xfrm>
            <a:off x="3021120" y="5411880"/>
            <a:ext cx="7189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5"/>
          <p:cNvSpPr/>
          <p:nvPr/>
        </p:nvSpPr>
        <p:spPr>
          <a:xfrm>
            <a:off x="612720" y="5149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8"/>
          <p:cNvSpPr/>
          <p:nvPr/>
        </p:nvSpPr>
        <p:spPr>
          <a:xfrm>
            <a:off x="4705560" y="5205960"/>
            <a:ext cx="10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= 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80.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0">
            <a:hlinkClick r:id="" action="ppaction://hlinkshowjump?jump=nextslide"/>
          </p:cNvPr>
          <p:cNvSpPr/>
          <p:nvPr/>
        </p:nvSpPr>
        <p:spPr>
          <a:xfrm>
            <a:off x="85755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428760" y="314280"/>
            <a:ext cx="70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% Atom Economy (also called % Atom Utilis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360360" y="785880"/>
            <a:ext cx="792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 measure of the percentage of the starting materials that actually ends up in the useful produ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360360" y="1357200"/>
            <a:ext cx="807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The greater the % atom economy of a reaction, the more 'efficient' or 'economic' it is likely to b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360360" y="2000160"/>
            <a:ext cx="650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To calculate the % Atom Economy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360360" y="2500200"/>
            <a:ext cx="813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Write the balanced equation for the re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360360" y="2857680"/>
            <a:ext cx="78580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2.  Calculate the total mass of the reactants for the numbers of moles in the reaction equation ; m</a:t>
            </a:r>
            <a:r>
              <a:rPr b="0" lang="en-GB" sz="1600" spc="-1" strike="noStrike" baseline="-25000">
                <a:solidFill>
                  <a:srgbClr val="0000ff"/>
                </a:solidFill>
                <a:latin typeface="Arial"/>
              </a:rPr>
              <a:t>reac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360360" y="3500280"/>
            <a:ext cx="8001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3.  Calculate the total mass of the “desired product” for the numbers of moles in the reaction equation ; m</a:t>
            </a:r>
            <a:r>
              <a:rPr b="0" lang="en-GB" sz="1600" spc="-1" strike="noStrike" baseline="-25000">
                <a:solidFill>
                  <a:srgbClr val="0000ff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5"/>
          <p:cNvGrpSpPr/>
          <p:nvPr/>
        </p:nvGrpSpPr>
        <p:grpSpPr>
          <a:xfrm>
            <a:off x="357120" y="3929040"/>
            <a:ext cx="4572000" cy="1303560"/>
            <a:chOff x="357120" y="3929040"/>
            <a:chExt cx="4572000" cy="1303560"/>
          </a:xfrm>
        </p:grpSpPr>
        <p:grpSp>
          <p:nvGrpSpPr>
            <p:cNvPr id="175" name="Group 13"/>
            <p:cNvGrpSpPr/>
            <p:nvPr/>
          </p:nvGrpSpPr>
          <p:grpSpPr>
            <a:xfrm>
              <a:off x="357120" y="3929040"/>
              <a:ext cx="4572000" cy="1303560"/>
              <a:chOff x="357120" y="3929040"/>
              <a:chExt cx="4572000" cy="1303560"/>
            </a:xfrm>
          </p:grpSpPr>
          <p:sp>
            <p:nvSpPr>
              <p:cNvPr id="176" name="Straight Connector 8"/>
              <p:cNvSpPr/>
              <p:nvPr/>
            </p:nvSpPr>
            <p:spPr>
              <a:xfrm>
                <a:off x="2928960" y="4577040"/>
                <a:ext cx="135720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12"/>
              <p:cNvSpPr/>
              <p:nvPr/>
            </p:nvSpPr>
            <p:spPr>
              <a:xfrm>
                <a:off x="357120" y="3929040"/>
                <a:ext cx="4572000" cy="130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buClr>
                    <a:srgbClr val="0000ff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4.                                    m</a:t>
                </a:r>
                <a:r>
                  <a:rPr b="0" lang="en-GB" sz="1800" spc="-1" strike="noStrike" baseline="-25000">
                    <a:solidFill>
                      <a:srgbClr val="0000ff"/>
                    </a:solidFill>
                    <a:latin typeface="Arial"/>
                  </a:rPr>
                  <a:t>product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  x  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m</a:t>
                </a:r>
                <a:r>
                  <a:rPr b="0" lang="en-GB" sz="1800" spc="-1" strike="noStrike" baseline="-25000">
                    <a:solidFill>
                      <a:srgbClr val="0000ff"/>
                    </a:solidFill>
                    <a:latin typeface="Arial"/>
                  </a:rPr>
                  <a:t>reacta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Rectangle 14"/>
            <p:cNvSpPr/>
            <p:nvPr/>
          </p:nvSpPr>
          <p:spPr>
            <a:xfrm>
              <a:off x="648000" y="4419720"/>
              <a:ext cx="251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ff"/>
                  </a:solidFill>
                  <a:latin typeface="Arial"/>
                </a:rPr>
                <a:t>%  Atom Economy  =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AutoShape 50">
            <a:hlinkClick r:id="" action="ppaction://hlinkshowjump?jump=nextslide"/>
          </p:cNvPr>
          <p:cNvSpPr/>
          <p:nvPr/>
        </p:nvSpPr>
        <p:spPr>
          <a:xfrm>
            <a:off x="8572680" y="2142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4"/>
          <p:cNvSpPr/>
          <p:nvPr/>
        </p:nvSpPr>
        <p:spPr>
          <a:xfrm>
            <a:off x="5214960" y="4071960"/>
            <a:ext cx="3357720" cy="252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Note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: reactions involving only the production of a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INGLE PRODUCT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will have 100% atom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e.g.  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+  Cl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2HCl    C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+  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C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+  3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2N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428760" y="142920"/>
            <a:ext cx="8286480" cy="18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quation for the production of lime (CaO) from limestone (CaCO3)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aO  + 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the % atom economy of this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066320" y="2428920"/>
            <a:ext cx="471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reactants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=   40.1 + 12.0  + 3(16.0)  = 100.1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049400" y="3056040"/>
            <a:ext cx="375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product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=   40.1  +  16.0  =  56.1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011960" y="3711600"/>
            <a:ext cx="38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%  Atom Economy  = 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56.1   x 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10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4929120" y="368784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56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0">
            <a:hlinkClick r:id="" action="ppaction://hlinkshowjump?jump=nextslide"/>
          </p:cNvPr>
          <p:cNvSpPr/>
          <p:nvPr/>
        </p:nvSpPr>
        <p:spPr>
          <a:xfrm>
            <a:off x="85755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428760" y="142920"/>
            <a:ext cx="8286480" cy="20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quations for the extraction of titanium from titanium(IV) oxide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C +  2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i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2Mg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i  +  2Mg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the % atom economy of the overall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1076400" y="3652920"/>
            <a:ext cx="692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reactants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=   47.9 + 2(16.0) + 12.0 + 2(2 x 35.5) + 2(24.3) = 282.5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1042560" y="4068720"/>
            <a:ext cx="209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product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=   47.9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1044000" y="4510080"/>
            <a:ext cx="38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%  Atom Economy  = 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47.9   x 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28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6"/>
          <p:cNvSpPr/>
          <p:nvPr/>
        </p:nvSpPr>
        <p:spPr>
          <a:xfrm>
            <a:off x="4929120" y="448632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17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Rectangle 7" descr=""/>
          <p:cNvPicPr/>
          <p:nvPr/>
        </p:nvPicPr>
        <p:blipFill>
          <a:blip r:embed="rId1"/>
          <a:stretch/>
        </p:blipFill>
        <p:spPr>
          <a:xfrm>
            <a:off x="1011240" y="2998800"/>
            <a:ext cx="7066080" cy="3906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8"/>
          <p:cNvSpPr/>
          <p:nvPr/>
        </p:nvSpPr>
        <p:spPr>
          <a:xfrm>
            <a:off x="1000080" y="242892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ombining 2 equations for an overall equation g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9"/>
          <p:cNvSpPr/>
          <p:nvPr/>
        </p:nvSpPr>
        <p:spPr>
          <a:xfrm>
            <a:off x="1000080" y="5487840"/>
            <a:ext cx="72151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Such a low % atom economy is typical of a MULTISTAG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0">
            <a:hlinkClick r:id="" action="ppaction://hlinkshowjump?jump=nextslide"/>
          </p:cNvPr>
          <p:cNvSpPr/>
          <p:nvPr/>
        </p:nvSpPr>
        <p:spPr>
          <a:xfrm>
            <a:off x="85755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428760" y="142920"/>
            <a:ext cx="842940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quation for the extraction of copper from copper sulphide i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 + 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u + 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 Calculate the % atom economy of the re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  If 9.60 tonnes of copper sulphide produce 4.80 tonnes of copper, calculate the % y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482760" y="2214720"/>
            <a:ext cx="750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      CuS     +      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u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+      S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066680" y="2571840"/>
            <a:ext cx="504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reactants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=   (63.5 + 32.1)  +  (2 x 16)  =  127.6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1042560" y="2928960"/>
            <a:ext cx="209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product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=   63.5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1011960" y="3336840"/>
            <a:ext cx="389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%  Atom Economy  = 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63.5    x 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127.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4929120" y="333684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49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>
            <a:off x="428760" y="4000680"/>
            <a:ext cx="82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2.   Theoretically, in excess oxygen, one mole CuS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one mole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9"/>
          <p:cNvSpPr/>
          <p:nvPr/>
        </p:nvSpPr>
        <p:spPr>
          <a:xfrm>
            <a:off x="874800" y="4357800"/>
            <a:ext cx="69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.e. (63.5 + 32.1) g CuS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63.5 g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0"/>
          <p:cNvSpPr/>
          <p:nvPr/>
        </p:nvSpPr>
        <p:spPr>
          <a:xfrm>
            <a:off x="857160" y="4703760"/>
            <a:ext cx="69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.e. 95.6 g CuS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63.5 g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1"/>
          <p:cNvSpPr/>
          <p:nvPr/>
        </p:nvSpPr>
        <p:spPr>
          <a:xfrm>
            <a:off x="874800" y="5060880"/>
            <a:ext cx="69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.e. 1.0 g CuS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63.5 / 95.6  =  0.664 g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2"/>
          <p:cNvSpPr/>
          <p:nvPr/>
        </p:nvSpPr>
        <p:spPr>
          <a:xfrm>
            <a:off x="857160" y="5418000"/>
            <a:ext cx="69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.e. 1.0 tonnes CuS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0.664 tonnes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3"/>
          <p:cNvSpPr/>
          <p:nvPr/>
        </p:nvSpPr>
        <p:spPr>
          <a:xfrm>
            <a:off x="857160" y="5775480"/>
            <a:ext cx="69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.e. 9.60 tonnes CuS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9.60  x  0.664 =  6.38 tonnes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2281320" y="61578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% Yield Cu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5"/>
          <p:cNvSpPr/>
          <p:nvPr/>
        </p:nvSpPr>
        <p:spPr>
          <a:xfrm>
            <a:off x="3710160" y="615456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4.80  x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6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5210280" y="60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7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50">
            <a:hlinkClick r:id="" action="ppaction://hlinkshowjump?jump=nextslide"/>
          </p:cNvPr>
          <p:cNvSpPr/>
          <p:nvPr/>
        </p:nvSpPr>
        <p:spPr>
          <a:xfrm>
            <a:off x="85755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11:43:52Z</dcterms:created>
  <dc:creator>Mike Hughes</dc:creator>
  <dc:description/>
  <dc:language>en-US</dc:language>
  <cp:lastModifiedBy>Nico Van De Casteele</cp:lastModifiedBy>
  <dcterms:modified xsi:type="dcterms:W3CDTF">2014-09-12T04:23:41Z</dcterms:modified>
  <cp:revision>32</cp:revision>
  <dc:subject/>
  <dc:title>Slide 1</dc:title>
</cp:coreProperties>
</file>